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02AD-5679-42AC-A9F9-C76A3307C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D8AE-E19D-431F-BD32-E24199E0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3A84-823A-4B80-B2A7-9F213F38D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367F-F312-45CD-A6AD-774ED0049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A10D-001A-453F-8743-26E86C61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7712-CEA0-4331-AF75-F95EE951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AFF1-711A-499B-B001-057EE1A1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61AF-0185-4878-9C46-6EB76865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2420-6CFB-42D7-8572-FC7787E3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8661-23E4-477A-8D9E-07D8E800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447B-2AC1-43AA-B029-04149DAC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B089-118F-4303-8363-BBD80614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82C9-9881-403E-804B-D349A381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FFAA-3A7C-4FED-8694-E25005DC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A7D1-3EF6-4E23-A13A-6094D1CE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B504-EE35-4777-B964-51282D57A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9C56-5D05-4E2F-99E5-C2EB55426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85F2-C47E-4FF6-BD6D-B27BDBD2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EDF0-744A-48E6-89D2-D19FB1AB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5E1D-2FE3-4193-AE1F-6B993F44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053F-E792-458E-8DFB-A0EBA901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F969-4EE0-4F0D-8AC6-343CA1C1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EB25-4ACF-45EA-9FD8-89B2D4DA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6566-7EA9-4355-ADD8-D2822E62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2880" y="129240"/>
                    <a:ext cx="28440" cy="2700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E0F9-A20E-4052-9AB0-77FBD64818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2880" y="129240"/>
                    <a:ext cx="28440" cy="2700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4338-F18E-44A2-9DD3-75EC8DCCB0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0605a"/>
                </a:solidFill>
                <a:latin typeface="Arial"/>
              </a:rPr>
              <a:t>Le Passé Composé et l’Imparfait</a:t>
            </a: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Plus-que-parf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0605a"/>
                </a:solidFill>
                <a:latin typeface="Arial"/>
              </a:rPr>
              <a:t>Quelques indices pour le passé composé</a:t>
            </a: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’année pass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mois dern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’ab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ina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su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u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, deux fo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lusieurs fo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autre j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 jour-l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j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undi le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oud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ut à c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ut de su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0605a"/>
                </a:solidFill>
                <a:latin typeface="Arial"/>
              </a:rPr>
              <a:t>A vous maintenant….</a:t>
            </a: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837720"/>
            <a:ext cx="7386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jeune homme poli, qui (porter) un costume élégant, (se lever) de sa chaise quand Élise (entre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l (conduire) lentement quand il (voir) le chien dans la 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utrefois on (habiter) au Québe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ls (partir) pour Paris le 5 juill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ls (partir) pour Paris lorsqu’ils (recevoir) les nouvelles de la mort de leur grand-pè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l ne (savoir) pas la répon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0605a"/>
                </a:solidFill>
                <a:latin typeface="Arial"/>
              </a:rPr>
              <a:t>A vous maintenant….</a:t>
            </a: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7543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jeune homme poli, qui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portai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un costume élégant,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s’est levé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de sa chaise quand Élise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est entré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conduisai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lentement quand il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a vu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le chien dans la 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utrefois on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habitai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au Québe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ls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sont parti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pour Paris le 5 juill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ls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partai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pour Paris lorsqu’ils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ont reçu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les nouvelles de la mort de leur grand-pè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l ne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savai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pas la répon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0605a"/>
                </a:solidFill>
                <a:latin typeface="Arial"/>
              </a:rPr>
              <a:t>Le plus-que-parfait</a:t>
            </a: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0605a"/>
                </a:solidFill>
                <a:latin typeface="Arial"/>
              </a:rPr>
              <a:t>La conjugaison</a:t>
            </a: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36162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J’avais f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u avais f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avait f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us avions f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ous aviez f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ls avaient f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76720" y="1599840"/>
            <a:ext cx="444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J’étais parvenu(e)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u étais parvenu(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l était parv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lle était par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us étions parv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ous étiez parvenu (e)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ls étaient parv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lles étaient parven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30605a"/>
                </a:solidFill>
                <a:latin typeface="Arial"/>
              </a:rPr>
              <a:t>Les verbes réfléchis au plus-que-parfait</a:t>
            </a: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28600" y="14479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Je m’étais dépêché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Tu t’étais dépêch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Il s’était dépêch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lle s’était dépêch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Nous nous étions dépêch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Vous vous étiez dépêch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Ils s’étaient dépêch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lle s’étaient dépêch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0605a"/>
                </a:solidFill>
                <a:latin typeface="Arial"/>
              </a:rPr>
              <a:t>L’Usage</a:t>
            </a: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7386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plus-que-parfait est un temps relatif qui existe seulement par rapport à un autre temps passé.  Il s’emploie pour exprimer une action terminée avant une autre action au passé; c’est un temps chronologiquement plus passé que le passé composé ou l’imparfa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762120" y="516564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08f5e"/>
                </a:solidFill>
                <a:latin typeface="Times New Roman"/>
              </a:rPr>
              <a:t>Passé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1" lang="fr-FR" sz="2400" spc="-1" strike="noStrike">
                <a:solidFill>
                  <a:srgbClr val="a08f5e"/>
                </a:solidFill>
                <a:latin typeface="Times New Roman"/>
              </a:rPr>
              <a:t>Pré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5"/>
          <p:cNvSpPr/>
          <p:nvPr/>
        </p:nvSpPr>
        <p:spPr>
          <a:xfrm>
            <a:off x="0" y="601992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5790960" y="5257800"/>
            <a:ext cx="759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-123840" y="556272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lus que parf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8"/>
          <p:cNvSpPr/>
          <p:nvPr/>
        </p:nvSpPr>
        <p:spPr>
          <a:xfrm flipH="1">
            <a:off x="2590560" y="5181480"/>
            <a:ext cx="759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3236040" y="548640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ssé compos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10"/>
          <p:cNvSpPr/>
          <p:nvPr/>
        </p:nvSpPr>
        <p:spPr>
          <a:xfrm>
            <a:off x="2666880" y="6172200"/>
            <a:ext cx="676440" cy="219240"/>
          </a:xfrm>
          <a:custGeom>
            <a:avLst/>
            <a:gdLst/>
            <a:ahLst/>
            <a:rect l="l" t="t" r="r" b="b"/>
            <a:pathLst>
              <a:path w="426" h="103">
                <a:moveTo>
                  <a:pt x="0" y="65"/>
                </a:moveTo>
                <a:cubicBezTo>
                  <a:pt x="6" y="58"/>
                  <a:pt x="60" y="0"/>
                  <a:pt x="77" y="0"/>
                </a:cubicBezTo>
                <a:cubicBezTo>
                  <a:pt x="92" y="0"/>
                  <a:pt x="103" y="17"/>
                  <a:pt x="116" y="26"/>
                </a:cubicBezTo>
                <a:cubicBezTo>
                  <a:pt x="122" y="44"/>
                  <a:pt x="127" y="94"/>
                  <a:pt x="168" y="78"/>
                </a:cubicBezTo>
                <a:cubicBezTo>
                  <a:pt x="182" y="72"/>
                  <a:pt x="185" y="52"/>
                  <a:pt x="194" y="39"/>
                </a:cubicBezTo>
                <a:cubicBezTo>
                  <a:pt x="215" y="43"/>
                  <a:pt x="239" y="41"/>
                  <a:pt x="258" y="52"/>
                </a:cubicBezTo>
                <a:cubicBezTo>
                  <a:pt x="271" y="59"/>
                  <a:pt x="271" y="81"/>
                  <a:pt x="284" y="91"/>
                </a:cubicBezTo>
                <a:cubicBezTo>
                  <a:pt x="294" y="99"/>
                  <a:pt x="310" y="99"/>
                  <a:pt x="323" y="103"/>
                </a:cubicBezTo>
                <a:cubicBezTo>
                  <a:pt x="335" y="94"/>
                  <a:pt x="351" y="89"/>
                  <a:pt x="361" y="78"/>
                </a:cubicBezTo>
                <a:cubicBezTo>
                  <a:pt x="397" y="32"/>
                  <a:pt x="341" y="28"/>
                  <a:pt x="413" y="52"/>
                </a:cubicBezTo>
                <a:cubicBezTo>
                  <a:pt x="417" y="65"/>
                  <a:pt x="426" y="91"/>
                  <a:pt x="426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3074400" y="60800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mparf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13"/>
          <p:cNvSpPr/>
          <p:nvPr/>
        </p:nvSpPr>
        <p:spPr>
          <a:xfrm>
            <a:off x="4527720" y="6170760"/>
            <a:ext cx="1228680" cy="241200"/>
          </a:xfrm>
          <a:custGeom>
            <a:avLst/>
            <a:gdLst/>
            <a:ahLst/>
            <a:rect l="l" t="t" r="r" b="b"/>
            <a:pathLst>
              <a:path w="774" h="152">
                <a:moveTo>
                  <a:pt x="0" y="114"/>
                </a:moveTo>
                <a:cubicBezTo>
                  <a:pt x="4" y="101"/>
                  <a:pt x="0" y="80"/>
                  <a:pt x="13" y="75"/>
                </a:cubicBezTo>
                <a:cubicBezTo>
                  <a:pt x="38" y="64"/>
                  <a:pt x="85" y="102"/>
                  <a:pt x="103" y="114"/>
                </a:cubicBezTo>
                <a:cubicBezTo>
                  <a:pt x="116" y="101"/>
                  <a:pt x="124" y="79"/>
                  <a:pt x="142" y="75"/>
                </a:cubicBezTo>
                <a:cubicBezTo>
                  <a:pt x="199" y="62"/>
                  <a:pt x="247" y="110"/>
                  <a:pt x="297" y="127"/>
                </a:cubicBezTo>
                <a:cubicBezTo>
                  <a:pt x="351" y="89"/>
                  <a:pt x="362" y="105"/>
                  <a:pt x="400" y="49"/>
                </a:cubicBezTo>
                <a:cubicBezTo>
                  <a:pt x="395" y="36"/>
                  <a:pt x="377" y="19"/>
                  <a:pt x="387" y="10"/>
                </a:cubicBezTo>
                <a:cubicBezTo>
                  <a:pt x="396" y="0"/>
                  <a:pt x="412" y="20"/>
                  <a:pt x="426" y="23"/>
                </a:cubicBezTo>
                <a:cubicBezTo>
                  <a:pt x="451" y="28"/>
                  <a:pt x="477" y="31"/>
                  <a:pt x="503" y="36"/>
                </a:cubicBezTo>
                <a:cubicBezTo>
                  <a:pt x="492" y="46"/>
                  <a:pt x="441" y="85"/>
                  <a:pt x="451" y="114"/>
                </a:cubicBezTo>
                <a:cubicBezTo>
                  <a:pt x="456" y="131"/>
                  <a:pt x="477" y="139"/>
                  <a:pt x="490" y="152"/>
                </a:cubicBezTo>
                <a:cubicBezTo>
                  <a:pt x="507" y="147"/>
                  <a:pt x="529" y="151"/>
                  <a:pt x="542" y="139"/>
                </a:cubicBezTo>
                <a:cubicBezTo>
                  <a:pt x="554" y="126"/>
                  <a:pt x="538" y="93"/>
                  <a:pt x="555" y="88"/>
                </a:cubicBezTo>
                <a:cubicBezTo>
                  <a:pt x="569" y="83"/>
                  <a:pt x="569" y="116"/>
                  <a:pt x="580" y="127"/>
                </a:cubicBezTo>
                <a:cubicBezTo>
                  <a:pt x="590" y="137"/>
                  <a:pt x="606" y="143"/>
                  <a:pt x="619" y="152"/>
                </a:cubicBezTo>
                <a:cubicBezTo>
                  <a:pt x="662" y="21"/>
                  <a:pt x="622" y="74"/>
                  <a:pt x="671" y="114"/>
                </a:cubicBezTo>
                <a:cubicBezTo>
                  <a:pt x="681" y="122"/>
                  <a:pt x="696" y="122"/>
                  <a:pt x="709" y="127"/>
                </a:cubicBezTo>
                <a:cubicBezTo>
                  <a:pt x="713" y="101"/>
                  <a:pt x="705" y="69"/>
                  <a:pt x="722" y="49"/>
                </a:cubicBezTo>
                <a:cubicBezTo>
                  <a:pt x="730" y="38"/>
                  <a:pt x="751" y="52"/>
                  <a:pt x="761" y="62"/>
                </a:cubicBezTo>
                <a:cubicBezTo>
                  <a:pt x="770" y="71"/>
                  <a:pt x="774" y="101"/>
                  <a:pt x="774" y="10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14"/>
          <p:cNvSpPr/>
          <p:nvPr/>
        </p:nvSpPr>
        <p:spPr>
          <a:xfrm>
            <a:off x="1676520" y="5079960"/>
            <a:ext cx="2514600" cy="482760"/>
          </a:xfrm>
          <a:custGeom>
            <a:avLst/>
            <a:gdLst/>
            <a:ahLst/>
            <a:rect l="l" t="t" r="r" b="b"/>
            <a:pathLst>
              <a:path w="1584" h="304">
                <a:moveTo>
                  <a:pt x="1584" y="208"/>
                </a:moveTo>
                <a:cubicBezTo>
                  <a:pt x="1212" y="104"/>
                  <a:pt x="840" y="0"/>
                  <a:pt x="576" y="16"/>
                </a:cubicBezTo>
                <a:cubicBezTo>
                  <a:pt x="312" y="32"/>
                  <a:pt x="96" y="256"/>
                  <a:pt x="0" y="3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0605a"/>
                </a:solidFill>
                <a:latin typeface="Arial"/>
              </a:rPr>
              <a:t>Exemples</a:t>
            </a: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320" y="1598760"/>
            <a:ext cx="75736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arce que Georges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n’avait pas fini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ses devoirs, nous ne sommes pas allés au ciné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uis qu’il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était arrivé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en retard, Pierre essayait de manger plus vite que d’habitude quand on a commencé à débarrasser la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lle a perdu la montre que son père lui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avait offert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pour son anniversa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0605a"/>
                </a:solidFill>
                <a:latin typeface="Arial"/>
              </a:rPr>
              <a:t>N’oubliez pas….</a:t>
            </a: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On peut aussi employer le plus-que-parfait dans une phrase conditionne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’il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n’avait pas plu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, nous serions allés à la pl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i Ugolin et Papet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avaient été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honnêtes, Jean de Florette ne serait pas m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0605a"/>
                </a:solidFill>
                <a:latin typeface="Arial"/>
              </a:rPr>
              <a:t>A vous: mettez les verbes au plus-que-parfait</a:t>
            </a: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ous aviez faim parce que vous ne pas (déjeun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u café elle a choisi la table où elle (s’installer) h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Je (finir) mes devoirs lorsque mon ami est venu me cher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train (partir) de la gare quand nous y sommes arrivés en ret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0605a"/>
                </a:solidFill>
                <a:latin typeface="Arial"/>
              </a:rPr>
              <a:t>L’Imparfait ou le Passé Composé?</a:t>
            </a: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and j’être petite, je ne savoir pas l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cambrioleur entrer dans la chambre et il prendre les bijou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l être petit et g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lle prendre un bain lorsque le téléphone so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Je vouloir acheter un nouveau roman mais je ne avoir pas d’arg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0605a"/>
                </a:solidFill>
                <a:latin typeface="Arial"/>
              </a:rPr>
              <a:t>A vous: mettez les verbes au plus-que-parfait</a:t>
            </a: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ous aviez faim parce que vous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n’aviez pas déjeuné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u café elle a choisi la table où elle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s’était installé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h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’avais (déjà) fini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mes devoirs lorsque mon ami est venu me cher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train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était (déjà) parti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de la gare quand nous y sommes arrivés en ret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685800" y="609480"/>
            <a:ext cx="6400800" cy="5639040"/>
          </a:xfrm>
          <a:custGeom>
            <a:avLst/>
            <a:gdLst>
              <a:gd name="textAreaLeft" fmla="*/ 1461240 w 6400800"/>
              <a:gd name="textAreaRight" fmla="*/ 4939560 w 6400800"/>
              <a:gd name="textAreaTop" fmla="*/ 1287360 h 5639040"/>
              <a:gd name="textAreaBottom" fmla="*/ 4351680 h 5639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a4c6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800" spc="-1" strike="noStrike">
                <a:solidFill>
                  <a:srgbClr val="a08f5e"/>
                </a:solidFill>
                <a:latin typeface="Times New Roman"/>
              </a:rPr>
              <a:t>LA FI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0605a"/>
                </a:solidFill>
                <a:latin typeface="Arial"/>
              </a:rPr>
              <a:t>L’Imparfait ou le Passé Composé?</a:t>
            </a: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and j’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étai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petite, je ne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savai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pas l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cambrioleur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est entré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dans la chambre et il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a pri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les bijou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étai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petit et g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lle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prenai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un bain lorsque le téléphone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a sonné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voulai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acheter un nouveau roman mais je n’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avai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pas d’arg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0605a"/>
                </a:solidFill>
                <a:latin typeface="Arial"/>
              </a:rPr>
              <a:t>Le Passé Composé….</a:t>
            </a: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marque une action précise terminée, ou une série d’actions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Il est entré dans la chambre où il a pris les bijou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marque une action à un temps spécifique dans le pass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Hier on est allé au ciné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0605a"/>
                </a:solidFill>
                <a:latin typeface="Arial"/>
              </a:rPr>
              <a:t>L’imparfait….</a:t>
            </a: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219320"/>
            <a:ext cx="7386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décrit et encadre au pas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08f5e"/>
                </a:solidFill>
                <a:latin typeface="Arial"/>
              </a:rPr>
              <a:t>Il faisait beau; l’homme était petit et g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08f5e"/>
                </a:solidFill>
                <a:latin typeface="Arial"/>
              </a:rPr>
              <a:t>La visibilité était mauvaise parce qu’il pleuvait à ve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xprime une action habituelle ou répétée au pas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08f5e"/>
                </a:solidFill>
                <a:latin typeface="Arial"/>
              </a:rPr>
              <a:t>L’année dernière je me réveillais tous les matins avant l’au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08f5e"/>
                </a:solidFill>
                <a:latin typeface="Arial"/>
              </a:rPr>
              <a:t>Quand il était jeune, il faisait du vé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08f5e"/>
                </a:solidFill>
                <a:latin typeface="Arial"/>
              </a:rPr>
              <a:t>Autrefois il fallait toute une semaine pour aller en Eur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0605a"/>
                </a:solidFill>
                <a:latin typeface="Arial"/>
              </a:rPr>
              <a:t>L’imparfait….</a:t>
            </a: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xprime une situation qui peut être interrompue par une action pré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Je dormais quand le téléphone a sonn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On jouait au foot quand il a commencé à pleuvo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Claire mangeait quand elle a  trouvé un cheveu dans sa sal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0605a"/>
                </a:solidFill>
                <a:latin typeface="Arial"/>
              </a:rPr>
              <a:t>L’imparfait….</a:t>
            </a: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st le temps le plus courant pour les verbes d’état com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Penser, croire, connaître, savoir, vouloir, pouvoir, espérer, préfér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   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avoir, ê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160e"/>
                </a:solidFill>
                <a:latin typeface="Arial"/>
              </a:rPr>
              <a:t>Attention: le sens de quelques verbes change au passé compo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0605a"/>
                </a:solidFill>
                <a:latin typeface="Arial"/>
              </a:rPr>
              <a:t>Attention:</a:t>
            </a: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J’ai vou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Jai 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J’ai con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J’ai 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J’ai é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743200" y="1598760"/>
            <a:ext cx="49068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ried (but fail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I found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I met (for the first t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I got, became, tu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I got, became, turned, w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457200" y="4572000"/>
            <a:ext cx="7162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08f5e"/>
                </a:solidFill>
                <a:latin typeface="Times New Roman"/>
              </a:rPr>
              <a:t>J’ai voulu sortir, mais je n’avais pas fini mes devo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08f5e"/>
                </a:solidFill>
                <a:latin typeface="Times New Roman"/>
              </a:rPr>
              <a:t>Le 28 décembre 2000, j’ai eu 50 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08f5e"/>
                </a:solidFill>
                <a:latin typeface="Times New Roman"/>
              </a:rPr>
              <a:t>J’ai eu peur quand j’ai vu le fantô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08f5e"/>
                </a:solidFill>
                <a:latin typeface="Times New Roman"/>
              </a:rPr>
              <a:t>J’ai été malade après avoir mangé les crevet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08f5e"/>
                </a:solidFill>
                <a:latin typeface="Times New Roman"/>
              </a:rPr>
              <a:t>J’ai été à Paris l’été derni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0605a"/>
                </a:solidFill>
                <a:latin typeface="Arial"/>
              </a:rPr>
              <a:t>Quelques  indices pour l’imparfait</a:t>
            </a: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utrefo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haque jour, mo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 temps en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’hab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 géné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Généra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Habituel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lundi, le mar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962160" y="1523520"/>
            <a:ext cx="41907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réquem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rfo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Quelquefo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ou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ouj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ous les jours (mo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out le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2T23:24:08Z</dcterms:created>
  <dc:creator>Sandra Howard</dc:creator>
  <dc:description/>
  <dc:language>en-US</dc:language>
  <cp:lastModifiedBy>Christopher Levy</cp:lastModifiedBy>
  <cp:lastPrinted>2005-07-22T23:36:32Z</cp:lastPrinted>
  <dcterms:modified xsi:type="dcterms:W3CDTF">2016-03-29T03:25:30Z</dcterms:modified>
  <cp:revision>36</cp:revision>
  <dc:subject/>
  <dc:title>Le Passé Composé et l’Imparfait</dc:title>
</cp:coreProperties>
</file>